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14.wmf" ContentType="image/x-wmf"/>
  <Override PartName="/ppt/media/image6.png" ContentType="image/png"/>
  <Override PartName="/ppt/media/image2.png" ContentType="image/png"/>
  <Override PartName="/ppt/media/image4.jpeg" ContentType="image/jpeg"/>
  <Override PartName="/ppt/media/image10.wmf" ContentType="image/x-wmf"/>
  <Override PartName="/ppt/media/image7.wmf" ContentType="image/x-wmf"/>
  <Override PartName="/ppt/media/image1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5624640" y="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3263760" y="509400"/>
            <a:ext cx="3399120" cy="25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AB72-16F8-4EBC-9863-EF24B3DE146E}" type="slidenum">
              <a:rPr b="0" lang="en-Z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77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565A-D6DF-465C-A4B0-A8114D18E7FE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77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2410-A217-41CE-B363-22D45744F4F1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57CF-C80F-4460-BFE5-E13A34BB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6787-7D71-4310-B7F6-B7163097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A43E-D716-49EA-833B-47A90136F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D424-5A7E-4A00-930B-F5A64F142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06D3-9898-4965-A1A2-10A0FDB62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E2A7-D4F8-4BD3-B343-8271DBB7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81CD-2196-44F2-A7EA-2B665D62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9FEA-E266-4184-8C8B-99EDE6D8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BFEC-389F-475E-8D6A-30F294DA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442A-0753-4540-8D95-2A27B3A7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332B-E2E1-467A-9305-B98DD947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9065-9824-4178-BFEF-4DDE2933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8B72-C7C4-41C0-AF83-AB92CE49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D80A-D000-4AFD-8B3C-A3B47DC3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DE24-22B0-4917-ABA1-5AA54577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2BA6-69A2-4E5A-BFEF-01F8FB8E9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878A-B839-42FC-A78C-5167F51F8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DDE1A-E2E8-410D-B164-05A4BD604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B288E-D1E1-48C5-BF88-1E7AAFF9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C37B9-F5CA-4CCE-80C1-E17E4D65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9B270-6422-4AF5-AC66-4449B95A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9E53E-54A4-4A04-8285-2D58FC8A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276F-0EEC-4676-BA32-787FE17B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B72DD-2115-418A-B4DC-1D45FF6D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C9232-E96D-4B11-851E-996AC642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0AC57-CDF5-49F5-BD3E-E80B47C5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A7129-7A2F-4AB2-8A78-7A0D9526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5A766-B3D1-47AB-ADE2-0A22B88F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D6831-DB03-4A93-A6E2-101F55713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903D4-640B-46C9-89F5-0DEEF7525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CAF41-3666-4104-A4FC-418EE4A43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D91D1-3729-4CF8-8CCD-C35CF52E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ACB2A-4A1E-4737-AB0A-0E957804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F2F3-B040-46BE-9D6B-9EEE0C82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78E59-677D-4046-BC88-BACC6974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DA707-3A05-4F21-B6DB-B661379C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E9408-44EA-436D-990A-D67B1381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E00F1-5183-4A02-B93B-9FAFBF68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7FB63-ACAE-40C2-AEDE-8FAC4CD2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81807-91A7-484F-B5FD-D489CFF8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C49AB-532E-4F25-8A11-0A7A522E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13B62-66D9-49F4-9249-2E7464256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C4260-16F6-45AB-8552-65D947198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2DC7-2AC9-408E-A6AE-B5802AE9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86B6-F935-489B-8CA9-226C39F3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5BCC-621E-4C91-A8DF-672A88C5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722E-53A3-4ABE-B476-29EA4804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B567-7E48-4EB8-9089-37538DB1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DE2E-20E7-4C0D-8F2B-21D4716932E4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3E10-A725-44E6-B31E-5FF302EF7E12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354D-9CE9-4541-8E81-F54173363537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8789-4717-4C7E-BE0C-5492B7A3F16B}" type="slidenum">
              <a:rPr b="0" lang="en-Z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96F9-C06F-418B-AF0E-31CA91C5E9EA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6EFE-495A-4BBF-994B-D1B6049D856B}" type="slidenum">
              <a:rPr b="0" lang="en-Z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C5A9-8D6F-4C63-A090-AC62CAFE10AD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3C69-46D2-4B80-A3BC-74484514D112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1176480"/>
            <a:ext cx="26431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04617b"/>
                </a:solidFill>
                <a:latin typeface="Century Gothic"/>
              </a:rPr>
              <a:t>BEAUFORT WES MUNISIPALITEIT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4080" rIns="45720" anchor="t">
            <a:norm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entury Gothic"/>
              </a:rPr>
              <a:t>KONSEP BEGRO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entury Gothic"/>
              </a:rPr>
              <a:t>2021/2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4932360" y="2241720"/>
          <a:ext cx="1724040" cy="184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241720"/>
                    <a:ext cx="1724040" cy="18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Slide Number Placeholder 4"/>
          <p:cNvSpPr/>
          <p:nvPr/>
        </p:nvSpPr>
        <p:spPr>
          <a:xfrm>
            <a:off x="807732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7460-FB5A-4826-B3B6-EDBDB0C3C831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nder algemene uitgawes behels die volgend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DE56-093F-4C9F-B5ED-8E373321BFA2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" descr=""/>
          <p:cNvPicPr/>
          <p:nvPr/>
        </p:nvPicPr>
        <p:blipFill>
          <a:blip r:embed="rId1"/>
          <a:stretch/>
        </p:blipFill>
        <p:spPr>
          <a:xfrm>
            <a:off x="457200" y="2421000"/>
            <a:ext cx="822960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tarief verhogings word voorgestel vir 2021/22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Belasting                                 - 5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Water                                      - 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Vullis                                        - 9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iool                                        - 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Elektrisiteit                               - 17.8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verse tariewe                      - 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5D4A-E0BE-4402-B68F-6DB2499407EB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ns word gemaak vir ‘n Groot Huishoud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Waardasie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 681 000 (R 700 000 minus R 19 000 kort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elektrisiteit verbruik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1000 kW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water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30 kl per ma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B07B-18FE-4D3F-8147-8FC90BD376BD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tarief verhogings het die volgende invloed op munisipale rekenin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8796-9F23-4FEA-83C1-CBD3D87F09E2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457200" y="2421000"/>
            <a:ext cx="822960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ns word gemaak vir ‘n Medium Huishoud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Waardasie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 431 000 (R 450 000 minus R 19 000 kort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elektrisiteit verbruik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600 kW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water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15 kl per ma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792D-71F7-4D7D-A78E-FB97489F5277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tarief verhogings het die volgende invloed op munisipale rekenin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3645-5EC9-4C23-9168-6F9833DE859A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" descr=""/>
          <p:cNvPicPr/>
          <p:nvPr/>
        </p:nvPicPr>
        <p:blipFill>
          <a:blip r:embed="rId1"/>
          <a:stretch/>
        </p:blipFill>
        <p:spPr>
          <a:xfrm>
            <a:off x="457200" y="2468520"/>
            <a:ext cx="82296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ns word gemaak vir ‘n Klein Huishoud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Waardasie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 11 600 (R 30 600 minus R 19 000 kort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elektrisiteit verbruik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200 eenhe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water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10 kl per ma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E11D-9665-4BCF-A058-8086F56BA7F3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tarief verhogings het die volgende invloed op munisipale rekenin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B511-239D-49CC-B4EC-7147080CA7AD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" descr=""/>
          <p:cNvPicPr/>
          <p:nvPr/>
        </p:nvPicPr>
        <p:blipFill>
          <a:blip r:embed="rId1"/>
          <a:stretch/>
        </p:blipFill>
        <p:spPr>
          <a:xfrm>
            <a:off x="457200" y="2847960"/>
            <a:ext cx="82296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`n Bedrag van R 41.07 miljoen word toegewys aan die verskaffing van gratis dienste in terme van die Raad se Deernis Beleid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Die gratis basiese dienste </a:t>
            </a: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aan huishoudings met ‘n inkomste vanaf R0,00 tot R1,890 beloop</a:t>
            </a: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 50 kWh Elektrisiteit,   6 kl water per maand en 100% subsidie vir Riool en Vullis per maand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Die gratis basiese dienste aan huishoudings met ‘n inkomste vanaf R1,891 tot R3,780 beloop 50 kWh Elektrisiteit,   6 kl water per maand en 70% subsidie vir Riool en Vullis per maand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0D9C-85E5-479E-990A-009DA39191FA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Deernissubsidie vanaf 01 Julie 202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3C15-6A2C-4EA5-8D5E-CD535A485609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" descr=""/>
          <p:cNvPicPr/>
          <p:nvPr/>
        </p:nvPicPr>
        <p:blipFill>
          <a:blip r:embed="rId1"/>
          <a:stretch/>
        </p:blipFill>
        <p:spPr>
          <a:xfrm>
            <a:off x="900000" y="2643120"/>
            <a:ext cx="7344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DRYFS- EN KAPITAAL BEGROTING 2021/22</a:t>
            </a:r>
            <a:br>
              <a:rPr sz="2800"/>
            </a:b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INLEIDING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2021/22 Voorgestelde Bedryfs en Kapitaal begrotings was voorberei inaggenome die volgend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Die munisipaliteit se GOP (IDP)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Nasionale Tesourie se voorskrifte;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Die Nasionale, Provinsiale en Plaaslike Ekonomiese omstandighede waaraan ons munisipaliteit blootgestel is; e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Plaaslike Ekonomiese Ontwikkel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787E-492C-467B-B6BA-55BA949EC870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Deernissubsidie vanaf 01 Julie 202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E1D5-00D8-4118-870F-93DEBD6A6A70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" descr=""/>
          <p:cNvPicPr/>
          <p:nvPr/>
        </p:nvPicPr>
        <p:blipFill>
          <a:blip r:embed="rId1"/>
          <a:stretch/>
        </p:blipFill>
        <p:spPr>
          <a:xfrm>
            <a:off x="900000" y="2643120"/>
            <a:ext cx="7344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entury Gothic"/>
              </a:rPr>
              <a:t>Deernissubsidie vanaf 01 Julie 202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1B40-4D11-402B-8280-A0E245E5689D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" descr=""/>
          <p:cNvPicPr/>
          <p:nvPr/>
        </p:nvPicPr>
        <p:blipFill>
          <a:blip r:embed="rId1"/>
          <a:stretch/>
        </p:blipFill>
        <p:spPr>
          <a:xfrm>
            <a:off x="1547640" y="3219480"/>
            <a:ext cx="6264360" cy="1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entury Gothic"/>
              </a:rPr>
              <a:t>Korting toegestaan aan Pensionariss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57CB-EDB2-4210-A4F4-BCEB82B1DE3D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Content Placeholder 3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777708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1176480"/>
            <a:ext cx="246240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Thank</a:t>
            </a:r>
            <a:r>
              <a:rPr b="1" lang="en-ZA" sz="2800" spc="-1" strike="noStrike">
                <a:solidFill>
                  <a:srgbClr val="04617b"/>
                </a:solidFill>
                <a:latin typeface="Calibri"/>
              </a:rPr>
              <a:t> You</a:t>
            </a:r>
            <a:br>
              <a:rPr sz="2800"/>
            </a:b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alibri"/>
              </a:rPr>
              <a:t>Baie Danki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4080" rIns="45720" anchor="t">
            <a:norm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entury Gothic"/>
              </a:rPr>
              <a:t>enKosi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84" name="Object 2"/>
          <p:cNvGraphicFramePr/>
          <p:nvPr/>
        </p:nvGraphicFramePr>
        <p:xfrm>
          <a:off x="4932360" y="2241720"/>
          <a:ext cx="1724040" cy="184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241720"/>
                    <a:ext cx="1724040" cy="18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Slide Number Placeholder 4"/>
          <p:cNvSpPr/>
          <p:nvPr/>
        </p:nvSpPr>
        <p:spPr>
          <a:xfrm>
            <a:off x="807732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6681-7419-41A2-8C1B-C5F537E71251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DRYFS- EN KAPITAAL BEGROTING 2021/22</a:t>
            </a:r>
            <a:br>
              <a:rPr sz="2800"/>
            </a:b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GROTINGS AANNAM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s was gemaak met die opstel van die begrot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beraamde VPI deur Nasionale Tesourie van 4.1% vir die 2021/22 finansiële jaar en 4.4%; 4.5% vir die daaropvolgende twee jar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Salaris aanpassing vir 2021/22 is gebasseer op TASK skale plus 4.0%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Verhoging in koste van grootmaat elektrisiteit aankope is 17.8%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Voorsiening vir oninbare skulde beloop 6.8% van alle dienste en belasting heffing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1052-5A5D-4258-A480-DF7A5903BE33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DRYFS- EN KAPITAAL BEGROTING 2021/22</a:t>
            </a:r>
            <a:br>
              <a:rPr sz="2800"/>
            </a:b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GROTINGS AANNAM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773360"/>
            <a:ext cx="8229600" cy="45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Alhoewel die verwagte inflasie koers soos geprojekteer deur Nasionale Tesourie 4.1% gaan beloop vir 2021/22 sal die bedryfs uitgawes met ‘n hoër persentasie styg weens die groei in inset kos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A1E9-1EC3-4638-B08F-F59C94481AC6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Kapitaal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`n Kapitaal Begroting van R 23,465 miljoen word voorgestel vir 2021/22 (R 27,245miljoen &amp;  R22,523 miljoen vir die daaropvolgende twee jare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2021/22 kapitaalbegroting word as volg gefinansier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6CBA-72A5-4EAE-A78D-FAA449E63267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" descr=""/>
          <p:cNvPicPr/>
          <p:nvPr/>
        </p:nvPicPr>
        <p:blipFill>
          <a:blip r:embed="rId1"/>
          <a:stretch/>
        </p:blipFill>
        <p:spPr>
          <a:xfrm>
            <a:off x="826920" y="4076640"/>
            <a:ext cx="78598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Kapitaal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is `n opsomming van die groter kapitaal projekte wat onderneem sal word gedurende 2021/22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F7A7-6316-48C4-9554-7E385F50F3A3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" descr=""/>
          <p:cNvPicPr/>
          <p:nvPr/>
        </p:nvPicPr>
        <p:blipFill>
          <a:blip r:embed="rId1"/>
          <a:stretch/>
        </p:blipFill>
        <p:spPr>
          <a:xfrm>
            <a:off x="463680" y="2692440"/>
            <a:ext cx="81406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341000"/>
            <a:ext cx="822960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Die verwagte inkomste vir die 2021/22 finansiële jaar beloop R 357,070 miljoen (R 383,084 miljoen en             R 381,453  miljoen vir die daaropvolgende twee jare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hoof inkomste bronne i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73CD-406B-42CC-9BB5-95604016CB24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81471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Ander eie inkomste behels die volgend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C564-D91E-41DA-9367-A6EC3EA87443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" descr=""/>
          <p:cNvPicPr/>
          <p:nvPr/>
        </p:nvPicPr>
        <p:blipFill>
          <a:blip r:embed="rId1"/>
          <a:stretch/>
        </p:blipFill>
        <p:spPr>
          <a:xfrm>
            <a:off x="684360" y="2543040"/>
            <a:ext cx="74167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geprojekteerde bedryfsuitgawe vir die 2021/22 finansiële jaar beloop R 354,392 miljoen (R 375,528 miljoen en R 375,528 miljoen vir die daaropvolgende twee jare). Die hoof uitgawe items is as vol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D5E0-5D7F-404F-8423-DF2FAFDF938B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" descr=""/>
          <p:cNvPicPr/>
          <p:nvPr/>
        </p:nvPicPr>
        <p:blipFill>
          <a:blip r:embed="rId1"/>
          <a:stretch/>
        </p:blipFill>
        <p:spPr>
          <a:xfrm>
            <a:off x="457200" y="3219480"/>
            <a:ext cx="822960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6:53:20Z</dcterms:created>
  <dc:creator>user29</dc:creator>
  <dc:description/>
  <dc:language>en-US</dc:language>
  <cp:lastModifiedBy>HP</cp:lastModifiedBy>
  <cp:lastPrinted>2021-05-04T10:44:47Z</cp:lastPrinted>
  <dcterms:modified xsi:type="dcterms:W3CDTF">2021-05-18T10:26:48Z</dcterms:modified>
  <cp:revision>232</cp:revision>
  <dc:subject/>
  <dc:title>BEAUFORT WEST MUNICIPALITY</dc:title>
</cp:coreProperties>
</file>